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41AA-4ACC-4F6B-A903-7FA65C411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64A9-6A65-4515-A7D6-FE3BC576D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F43B-5F89-4DA4-BD62-9079622EB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07B0-0381-4C7D-AC7D-AD3322C12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5D2E-8B67-4510-A3D6-F721B0DCE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5B0C-C53B-499B-8EB1-5B90C9A2A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C6E5-AE1A-432A-B86B-8FB42AB6A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19E5-1C3F-4D45-8E80-74A6173B8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80F2-8F13-4573-B1FC-CC6E1E8E3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0C48-828A-46AA-BF90-91047D4E2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8CBE-B50C-4221-99C0-7AFECC3D1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2C40-27DC-4AC9-B576-7BED97C32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2CFD-B18C-43BB-B2A6-C9C3A432C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8CFA-8ADC-4DCE-B891-47517C3CED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77E9-9E0B-4D9D-8CA3-608D3850C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7296-295F-452A-B6AF-0C8161693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564F-0AE2-4B4C-BCD4-FC4D9F696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D5BD-D951-4CD5-91FC-AD49C8A03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95BB-6657-4547-AB38-1297BAD35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CC51-9AE0-4112-A79B-72DCF4E56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06AF-1B2D-4B51-BBF4-FAECFB299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914F-2891-4EF8-9D1A-8D91466CC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E4EB-611B-4A19-8F17-513724D1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E796-20A8-46FA-A90A-64D59312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E01-AF10-4869-A120-5ECEB342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960-A30A-461B-A2BD-B0A0E2C8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5BF-A7E4-4933-9939-FE4D65BB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6925-F21B-472D-8139-39BD89B4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C06-CBA9-4063-9515-5AE0C67C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C33-B1AA-45DA-A519-5FB2C814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F00-023C-4D23-A34D-811F32CD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EC29-3EE3-4B89-B0AD-1385D8B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18D-09C7-48D4-8389-C11C6475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DB0-8888-4F8F-8E58-34496D3A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367C-41BE-4A9C-A167-55705BD66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880" y="42660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HYSICS 2CL – SPRING 2009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ysics Laboratory: Electricity and Magnetism, Waves and Optic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46080" y="2398680"/>
            <a:ext cx="7013520" cy="34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f. Leonid Buto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for Prof. Oleg Shpyr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Comic Sans MS"/>
              </a:rPr>
              <a:t>oshpyrko@physics.ucsd.edu</a:t>
            </a:r>
            <a:r>
              <a:rPr b="0" lang="en-US" sz="2400" spc="-1" strike="noStrike">
                <a:solidFill>
                  <a:srgbClr val="0070c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er Hall Addition (MHA) 3681, ext. 4-30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fice Hours: Mondays, 3PM-4PM.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ondays, 2:00 p.m. – 2:50 p.m., York Hall 272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912960" y="5753520"/>
            <a:ext cx="721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urse materials via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Comic Sans MS"/>
              </a:rPr>
              <a:t>webct.ucsd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cluding these lecture slides, manual, schedules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627640" y="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LINEAR  FIT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(x) = A + 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2"/>
          <p:cNvGraphicFramePr/>
          <p:nvPr/>
        </p:nvGraphicFramePr>
        <p:xfrm>
          <a:off x="0" y="1233360"/>
          <a:ext cx="7772400" cy="56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3360"/>
                    <a:ext cx="7772400" cy="56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Line 5"/>
          <p:cNvSpPr/>
          <p:nvPr/>
        </p:nvSpPr>
        <p:spPr>
          <a:xfrm flipV="1">
            <a:off x="971640" y="1066680"/>
            <a:ext cx="6095880" cy="4724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2343240" y="3352680"/>
            <a:ext cx="761760" cy="762120"/>
            <a:chOff x="2343240" y="3352680"/>
            <a:chExt cx="761760" cy="762120"/>
          </a:xfrm>
        </p:grpSpPr>
        <p:sp>
          <p:nvSpPr>
            <p:cNvPr id="143" name="Line 7"/>
            <p:cNvSpPr/>
            <p:nvPr/>
          </p:nvSpPr>
          <p:spPr>
            <a:xfrm>
              <a:off x="234324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343240" y="4114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9"/>
          <p:cNvSpPr/>
          <p:nvPr/>
        </p:nvSpPr>
        <p:spPr>
          <a:xfrm>
            <a:off x="2419200" y="3352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0"/>
          <p:cNvGrpSpPr/>
          <p:nvPr/>
        </p:nvGrpSpPr>
        <p:grpSpPr>
          <a:xfrm>
            <a:off x="4629240" y="2971800"/>
            <a:ext cx="761760" cy="457200"/>
            <a:chOff x="4629240" y="2971800"/>
            <a:chExt cx="761760" cy="457200"/>
          </a:xfrm>
        </p:grpSpPr>
        <p:sp>
          <p:nvSpPr>
            <p:cNvPr id="147" name="Line 11"/>
            <p:cNvSpPr/>
            <p:nvPr/>
          </p:nvSpPr>
          <p:spPr>
            <a:xfrm>
              <a:off x="4629240" y="2971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4629240" y="3429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Line 13"/>
          <p:cNvSpPr/>
          <p:nvPr/>
        </p:nvSpPr>
        <p:spPr>
          <a:xfrm>
            <a:off x="5162400" y="29718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354320" y="3521160"/>
            <a:ext cx="1545840" cy="4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(A+B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5313600" y="2895480"/>
            <a:ext cx="15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(A+B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 rot="19237200">
            <a:off x="6838920" y="75996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u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7"/>
          <p:cNvGrpSpPr/>
          <p:nvPr/>
        </p:nvGrpSpPr>
        <p:grpSpPr>
          <a:xfrm>
            <a:off x="3255120" y="1025640"/>
            <a:ext cx="2617200" cy="703440"/>
            <a:chOff x="3255120" y="1025640"/>
            <a:chExt cx="2617200" cy="703440"/>
          </a:xfrm>
        </p:grpSpPr>
        <p:sp>
          <p:nvSpPr>
            <p:cNvPr id="154" name="Text Box 18"/>
            <p:cNvSpPr/>
            <p:nvPr/>
          </p:nvSpPr>
          <p:spPr>
            <a:xfrm>
              <a:off x="3570480" y="1141560"/>
              <a:ext cx="2301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[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(A+B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>
              <a:off x="3255120" y="1025640"/>
              <a:ext cx="48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226480" y="988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21"/>
          <p:cNvSpPr/>
          <p:nvPr/>
        </p:nvSpPr>
        <p:spPr>
          <a:xfrm>
            <a:off x="4253040" y="1101600"/>
            <a:ext cx="22860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4600440" y="1101600"/>
            <a:ext cx="20016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1298520" y="1160640"/>
            <a:ext cx="1487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inim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4"/>
          <p:cNvSpPr/>
          <p:nvPr/>
        </p:nvSpPr>
        <p:spPr>
          <a:xfrm>
            <a:off x="2855880" y="1406520"/>
            <a:ext cx="53352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277920" y="525600"/>
            <a:ext cx="70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thod of linear regression, aka the least-squares fit….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163520" y="160200"/>
            <a:ext cx="548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hat about error b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Not all data points are created equ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6"/>
          <p:cNvGrpSpPr/>
          <p:nvPr/>
        </p:nvGrpSpPr>
        <p:grpSpPr>
          <a:xfrm>
            <a:off x="76320" y="1066680"/>
            <a:ext cx="8001000" cy="5700960"/>
            <a:chOff x="76320" y="1066680"/>
            <a:chExt cx="8001000" cy="5700960"/>
          </a:xfrm>
        </p:grpSpPr>
        <p:graphicFrame>
          <p:nvGraphicFramePr>
            <p:cNvPr id="164" name="Object 2"/>
            <p:cNvGraphicFramePr/>
            <p:nvPr/>
          </p:nvGraphicFramePr>
          <p:xfrm>
            <a:off x="76320" y="1142640"/>
            <a:ext cx="7772400" cy="5625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142640"/>
                      <a:ext cx="7772400" cy="562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6" name="Rectangle 25"/>
            <p:cNvSpPr/>
            <p:nvPr/>
          </p:nvSpPr>
          <p:spPr>
            <a:xfrm>
              <a:off x="1219320" y="1066680"/>
              <a:ext cx="6858000" cy="464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6"/>
          <p:cNvGrpSpPr/>
          <p:nvPr/>
        </p:nvGrpSpPr>
        <p:grpSpPr>
          <a:xfrm>
            <a:off x="4647960" y="3200400"/>
            <a:ext cx="245880" cy="609480"/>
            <a:chOff x="4647960" y="3200400"/>
            <a:chExt cx="245880" cy="609480"/>
          </a:xfrm>
        </p:grpSpPr>
        <p:sp>
          <p:nvSpPr>
            <p:cNvPr id="168" name="Oval 27"/>
            <p:cNvSpPr/>
            <p:nvPr/>
          </p:nvSpPr>
          <p:spPr>
            <a:xfrm>
              <a:off x="4694040" y="3460680"/>
              <a:ext cx="152280" cy="1522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35"/>
            <p:cNvGrpSpPr/>
            <p:nvPr/>
          </p:nvGrpSpPr>
          <p:grpSpPr>
            <a:xfrm>
              <a:off x="4647960" y="3200400"/>
              <a:ext cx="245880" cy="609480"/>
              <a:chOff x="4647960" y="3200400"/>
              <a:chExt cx="245880" cy="609480"/>
            </a:xfrm>
          </p:grpSpPr>
          <p:sp>
            <p:nvSpPr>
              <p:cNvPr id="170" name="Straight Connector 31"/>
              <p:cNvSpPr/>
              <p:nvPr/>
            </p:nvSpPr>
            <p:spPr>
              <a:xfrm flipH="1">
                <a:off x="4770360" y="3200400"/>
                <a:ext cx="1440" cy="60948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Straight Connector 32"/>
              <p:cNvSpPr/>
              <p:nvPr/>
            </p:nvSpPr>
            <p:spPr>
              <a:xfrm flipH="1" flipV="1">
                <a:off x="4647960" y="3216240"/>
                <a:ext cx="22860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Straight Connector 34"/>
              <p:cNvSpPr/>
              <p:nvPr/>
            </p:nvSpPr>
            <p:spPr>
              <a:xfrm flipH="1">
                <a:off x="4665240" y="3808440"/>
                <a:ext cx="22860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47"/>
          <p:cNvGrpSpPr/>
          <p:nvPr/>
        </p:nvGrpSpPr>
        <p:grpSpPr>
          <a:xfrm>
            <a:off x="1995480" y="4633920"/>
            <a:ext cx="214200" cy="212760"/>
            <a:chOff x="1995480" y="4633920"/>
            <a:chExt cx="214200" cy="212760"/>
          </a:xfrm>
        </p:grpSpPr>
        <p:sp>
          <p:nvSpPr>
            <p:cNvPr id="174" name="Oval 38"/>
            <p:cNvSpPr/>
            <p:nvPr/>
          </p:nvSpPr>
          <p:spPr>
            <a:xfrm>
              <a:off x="2027160" y="4680000"/>
              <a:ext cx="152280" cy="15264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35"/>
            <p:cNvGrpSpPr/>
            <p:nvPr/>
          </p:nvGrpSpPr>
          <p:grpSpPr>
            <a:xfrm>
              <a:off x="1995480" y="4633920"/>
              <a:ext cx="214200" cy="212760"/>
              <a:chOff x="1995480" y="4633920"/>
              <a:chExt cx="214200" cy="212760"/>
            </a:xfrm>
          </p:grpSpPr>
          <p:sp>
            <p:nvSpPr>
              <p:cNvPr id="176" name="Straight Connector 40"/>
              <p:cNvSpPr/>
              <p:nvPr/>
            </p:nvSpPr>
            <p:spPr>
              <a:xfrm flipH="1">
                <a:off x="2101680" y="4633920"/>
                <a:ext cx="1440" cy="21276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Straight Connector 41"/>
              <p:cNvSpPr/>
              <p:nvPr/>
            </p:nvSpPr>
            <p:spPr>
              <a:xfrm flipH="1">
                <a:off x="1995480" y="4640040"/>
                <a:ext cx="2001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Straight Connector 42"/>
              <p:cNvSpPr/>
              <p:nvPr/>
            </p:nvSpPr>
            <p:spPr>
              <a:xfrm flipH="1">
                <a:off x="2009520" y="4846680"/>
                <a:ext cx="2001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Group 48"/>
          <p:cNvGrpSpPr/>
          <p:nvPr/>
        </p:nvGrpSpPr>
        <p:grpSpPr>
          <a:xfrm>
            <a:off x="1371600" y="5119560"/>
            <a:ext cx="214200" cy="214560"/>
            <a:chOff x="1371600" y="5119560"/>
            <a:chExt cx="214200" cy="214560"/>
          </a:xfrm>
        </p:grpSpPr>
        <p:sp>
          <p:nvSpPr>
            <p:cNvPr id="180" name="Oval 49"/>
            <p:cNvSpPr/>
            <p:nvPr/>
          </p:nvSpPr>
          <p:spPr>
            <a:xfrm>
              <a:off x="1403640" y="5165640"/>
              <a:ext cx="152280" cy="1540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35"/>
            <p:cNvGrpSpPr/>
            <p:nvPr/>
          </p:nvGrpSpPr>
          <p:grpSpPr>
            <a:xfrm>
              <a:off x="1371600" y="5119560"/>
              <a:ext cx="214200" cy="214560"/>
              <a:chOff x="1371600" y="5119560"/>
              <a:chExt cx="214200" cy="214560"/>
            </a:xfrm>
          </p:grpSpPr>
          <p:sp>
            <p:nvSpPr>
              <p:cNvPr id="182" name="Straight Connector 51"/>
              <p:cNvSpPr/>
              <p:nvPr/>
            </p:nvSpPr>
            <p:spPr>
              <a:xfrm flipH="1">
                <a:off x="1477800" y="5119560"/>
                <a:ext cx="1440" cy="21456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Straight Connector 52"/>
              <p:cNvSpPr/>
              <p:nvPr/>
            </p:nvSpPr>
            <p:spPr>
              <a:xfrm flipH="1">
                <a:off x="1371600" y="5125680"/>
                <a:ext cx="2001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Straight Connector 53"/>
              <p:cNvSpPr/>
              <p:nvPr/>
            </p:nvSpPr>
            <p:spPr>
              <a:xfrm flipH="1">
                <a:off x="1385640" y="5334120"/>
                <a:ext cx="2001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54"/>
          <p:cNvGrpSpPr/>
          <p:nvPr/>
        </p:nvGrpSpPr>
        <p:grpSpPr>
          <a:xfrm>
            <a:off x="2514600" y="4510080"/>
            <a:ext cx="214200" cy="214200"/>
            <a:chOff x="2514600" y="4510080"/>
            <a:chExt cx="214200" cy="214200"/>
          </a:xfrm>
        </p:grpSpPr>
        <p:sp>
          <p:nvSpPr>
            <p:cNvPr id="186" name="Oval 55"/>
            <p:cNvSpPr/>
            <p:nvPr/>
          </p:nvSpPr>
          <p:spPr>
            <a:xfrm>
              <a:off x="2546640" y="4556160"/>
              <a:ext cx="152280" cy="1540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35"/>
            <p:cNvGrpSpPr/>
            <p:nvPr/>
          </p:nvGrpSpPr>
          <p:grpSpPr>
            <a:xfrm>
              <a:off x="2514600" y="4510080"/>
              <a:ext cx="214200" cy="214200"/>
              <a:chOff x="2514600" y="4510080"/>
              <a:chExt cx="214200" cy="214200"/>
            </a:xfrm>
          </p:grpSpPr>
          <p:sp>
            <p:nvSpPr>
              <p:cNvPr id="188" name="Straight Connector 57"/>
              <p:cNvSpPr/>
              <p:nvPr/>
            </p:nvSpPr>
            <p:spPr>
              <a:xfrm flipH="1">
                <a:off x="2620800" y="4510080"/>
                <a:ext cx="1440" cy="21420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Straight Connector 58"/>
              <p:cNvSpPr/>
              <p:nvPr/>
            </p:nvSpPr>
            <p:spPr>
              <a:xfrm flipH="1">
                <a:off x="2514600" y="4516200"/>
                <a:ext cx="2001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Straight Connector 59"/>
              <p:cNvSpPr/>
              <p:nvPr/>
            </p:nvSpPr>
            <p:spPr>
              <a:xfrm flipH="1">
                <a:off x="2528640" y="4724280"/>
                <a:ext cx="2001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66"/>
          <p:cNvGrpSpPr/>
          <p:nvPr/>
        </p:nvGrpSpPr>
        <p:grpSpPr>
          <a:xfrm>
            <a:off x="6553080" y="2133720"/>
            <a:ext cx="304920" cy="1447560"/>
            <a:chOff x="6553080" y="2133720"/>
            <a:chExt cx="304920" cy="1447560"/>
          </a:xfrm>
        </p:grpSpPr>
        <p:sp>
          <p:nvSpPr>
            <p:cNvPr id="192" name="Oval 61"/>
            <p:cNvSpPr/>
            <p:nvPr/>
          </p:nvSpPr>
          <p:spPr>
            <a:xfrm>
              <a:off x="6629040" y="2832120"/>
              <a:ext cx="152280" cy="1522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35"/>
            <p:cNvGrpSpPr/>
            <p:nvPr/>
          </p:nvGrpSpPr>
          <p:grpSpPr>
            <a:xfrm>
              <a:off x="6553080" y="2133720"/>
              <a:ext cx="304920" cy="1447560"/>
              <a:chOff x="6553080" y="2133720"/>
              <a:chExt cx="304920" cy="1447560"/>
            </a:xfrm>
          </p:grpSpPr>
          <p:sp>
            <p:nvSpPr>
              <p:cNvPr id="194" name="Straight Connector 63"/>
              <p:cNvSpPr/>
              <p:nvPr/>
            </p:nvSpPr>
            <p:spPr>
              <a:xfrm flipH="1">
                <a:off x="6703920" y="2133720"/>
                <a:ext cx="1440" cy="144756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Straight Connector 64"/>
              <p:cNvSpPr/>
              <p:nvPr/>
            </p:nvSpPr>
            <p:spPr>
              <a:xfrm flipH="1" flipV="1">
                <a:off x="6553080" y="2173320"/>
                <a:ext cx="28440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Straight Connector 65"/>
              <p:cNvSpPr/>
              <p:nvPr/>
            </p:nvSpPr>
            <p:spPr>
              <a:xfrm flipH="1" flipV="1">
                <a:off x="6573600" y="3578400"/>
                <a:ext cx="28440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7" name="Group 67"/>
          <p:cNvGrpSpPr/>
          <p:nvPr/>
        </p:nvGrpSpPr>
        <p:grpSpPr>
          <a:xfrm>
            <a:off x="3486240" y="3827520"/>
            <a:ext cx="212760" cy="214200"/>
            <a:chOff x="3486240" y="3827520"/>
            <a:chExt cx="212760" cy="214200"/>
          </a:xfrm>
        </p:grpSpPr>
        <p:sp>
          <p:nvSpPr>
            <p:cNvPr id="198" name="Oval 68"/>
            <p:cNvSpPr/>
            <p:nvPr/>
          </p:nvSpPr>
          <p:spPr>
            <a:xfrm>
              <a:off x="3518280" y="3873600"/>
              <a:ext cx="152640" cy="1540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35"/>
            <p:cNvGrpSpPr/>
            <p:nvPr/>
          </p:nvGrpSpPr>
          <p:grpSpPr>
            <a:xfrm>
              <a:off x="3486240" y="3827520"/>
              <a:ext cx="212760" cy="214200"/>
              <a:chOff x="3486240" y="3827520"/>
              <a:chExt cx="212760" cy="214200"/>
            </a:xfrm>
          </p:grpSpPr>
          <p:sp>
            <p:nvSpPr>
              <p:cNvPr id="200" name="Straight Connector 70"/>
              <p:cNvSpPr/>
              <p:nvPr/>
            </p:nvSpPr>
            <p:spPr>
              <a:xfrm flipH="1">
                <a:off x="3591000" y="3827520"/>
                <a:ext cx="1440" cy="21420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Straight Connector 71"/>
              <p:cNvSpPr/>
              <p:nvPr/>
            </p:nvSpPr>
            <p:spPr>
              <a:xfrm flipH="1">
                <a:off x="3486240" y="3833640"/>
                <a:ext cx="19872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Straight Connector 72"/>
              <p:cNvSpPr/>
              <p:nvPr/>
            </p:nvSpPr>
            <p:spPr>
              <a:xfrm flipH="1">
                <a:off x="3500280" y="4041720"/>
                <a:ext cx="19872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Line 5"/>
          <p:cNvSpPr/>
          <p:nvPr/>
        </p:nvSpPr>
        <p:spPr>
          <a:xfrm flipV="1">
            <a:off x="1089000" y="1417320"/>
            <a:ext cx="6988320" cy="3903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1143000" y="2437920"/>
            <a:ext cx="7162920" cy="221004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76"/>
          <p:cNvGrpSpPr/>
          <p:nvPr/>
        </p:nvGrpSpPr>
        <p:grpSpPr>
          <a:xfrm>
            <a:off x="5638680" y="2743200"/>
            <a:ext cx="246240" cy="609480"/>
            <a:chOff x="5638680" y="2743200"/>
            <a:chExt cx="246240" cy="609480"/>
          </a:xfrm>
        </p:grpSpPr>
        <p:sp>
          <p:nvSpPr>
            <p:cNvPr id="206" name="Oval 77"/>
            <p:cNvSpPr/>
            <p:nvPr/>
          </p:nvSpPr>
          <p:spPr>
            <a:xfrm>
              <a:off x="5684760" y="3003480"/>
              <a:ext cx="152640" cy="1522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35"/>
            <p:cNvGrpSpPr/>
            <p:nvPr/>
          </p:nvGrpSpPr>
          <p:grpSpPr>
            <a:xfrm>
              <a:off x="5638680" y="2743200"/>
              <a:ext cx="246240" cy="609480"/>
              <a:chOff x="5638680" y="2743200"/>
              <a:chExt cx="246240" cy="609480"/>
            </a:xfrm>
          </p:grpSpPr>
          <p:sp>
            <p:nvSpPr>
              <p:cNvPr id="208" name="Straight Connector 79"/>
              <p:cNvSpPr/>
              <p:nvPr/>
            </p:nvSpPr>
            <p:spPr>
              <a:xfrm flipH="1">
                <a:off x="5761080" y="2743200"/>
                <a:ext cx="1440" cy="60948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Straight Connector 80"/>
              <p:cNvSpPr/>
              <p:nvPr/>
            </p:nvSpPr>
            <p:spPr>
              <a:xfrm flipH="1" flipV="1">
                <a:off x="5638680" y="2759040"/>
                <a:ext cx="22896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Straight Connector 81"/>
              <p:cNvSpPr/>
              <p:nvPr/>
            </p:nvSpPr>
            <p:spPr>
              <a:xfrm flipH="1">
                <a:off x="5655960" y="3351240"/>
                <a:ext cx="228960" cy="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Group 82"/>
          <p:cNvGrpSpPr/>
          <p:nvPr/>
        </p:nvGrpSpPr>
        <p:grpSpPr>
          <a:xfrm>
            <a:off x="7772400" y="1447920"/>
            <a:ext cx="304920" cy="1447560"/>
            <a:chOff x="7772400" y="1447920"/>
            <a:chExt cx="304920" cy="1447560"/>
          </a:xfrm>
        </p:grpSpPr>
        <p:sp>
          <p:nvSpPr>
            <p:cNvPr id="212" name="Oval 83"/>
            <p:cNvSpPr/>
            <p:nvPr/>
          </p:nvSpPr>
          <p:spPr>
            <a:xfrm>
              <a:off x="7847280" y="2146320"/>
              <a:ext cx="152280" cy="1522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35"/>
            <p:cNvGrpSpPr/>
            <p:nvPr/>
          </p:nvGrpSpPr>
          <p:grpSpPr>
            <a:xfrm>
              <a:off x="7772400" y="1447920"/>
              <a:ext cx="304920" cy="1447560"/>
              <a:chOff x="7772400" y="1447920"/>
              <a:chExt cx="304920" cy="1447560"/>
            </a:xfrm>
          </p:grpSpPr>
          <p:sp>
            <p:nvSpPr>
              <p:cNvPr id="214" name="Straight Connector 85"/>
              <p:cNvSpPr/>
              <p:nvPr/>
            </p:nvSpPr>
            <p:spPr>
              <a:xfrm flipH="1">
                <a:off x="7923240" y="1447920"/>
                <a:ext cx="1440" cy="144756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Straight Connector 86"/>
              <p:cNvSpPr/>
              <p:nvPr/>
            </p:nvSpPr>
            <p:spPr>
              <a:xfrm flipH="1" flipV="1">
                <a:off x="7772400" y="1487520"/>
                <a:ext cx="28440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Straight Connector 87"/>
              <p:cNvSpPr/>
              <p:nvPr/>
            </p:nvSpPr>
            <p:spPr>
              <a:xfrm flipH="1" flipV="1">
                <a:off x="7792920" y="2892600"/>
                <a:ext cx="28440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oup 88"/>
          <p:cNvGrpSpPr/>
          <p:nvPr/>
        </p:nvGrpSpPr>
        <p:grpSpPr>
          <a:xfrm>
            <a:off x="7162560" y="1905120"/>
            <a:ext cx="304560" cy="1447560"/>
            <a:chOff x="7162560" y="1905120"/>
            <a:chExt cx="304560" cy="1447560"/>
          </a:xfrm>
        </p:grpSpPr>
        <p:sp>
          <p:nvSpPr>
            <p:cNvPr id="218" name="Oval 89"/>
            <p:cNvSpPr/>
            <p:nvPr/>
          </p:nvSpPr>
          <p:spPr>
            <a:xfrm>
              <a:off x="7237800" y="2603520"/>
              <a:ext cx="152280" cy="152280"/>
            </a:xfrm>
            <a:prstGeom prst="ellipse">
              <a:avLst/>
            </a:prstGeom>
            <a:solidFill>
              <a:srgbClr val="1f0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35"/>
            <p:cNvGrpSpPr/>
            <p:nvPr/>
          </p:nvGrpSpPr>
          <p:grpSpPr>
            <a:xfrm>
              <a:off x="7162560" y="1905120"/>
              <a:ext cx="304560" cy="1447560"/>
              <a:chOff x="7162560" y="1905120"/>
              <a:chExt cx="304560" cy="1447560"/>
            </a:xfrm>
          </p:grpSpPr>
          <p:sp>
            <p:nvSpPr>
              <p:cNvPr id="220" name="Straight Connector 91"/>
              <p:cNvSpPr/>
              <p:nvPr/>
            </p:nvSpPr>
            <p:spPr>
              <a:xfrm flipH="1">
                <a:off x="7313760" y="1905120"/>
                <a:ext cx="1440" cy="144756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Straight Connector 92"/>
              <p:cNvSpPr/>
              <p:nvPr/>
            </p:nvSpPr>
            <p:spPr>
              <a:xfrm flipH="1" flipV="1">
                <a:off x="7162560" y="1944720"/>
                <a:ext cx="28404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Straight Connector 93"/>
              <p:cNvSpPr/>
              <p:nvPr/>
            </p:nvSpPr>
            <p:spPr>
              <a:xfrm flipH="1" flipV="1">
                <a:off x="7183080" y="3349800"/>
                <a:ext cx="284040" cy="1440"/>
              </a:xfrm>
              <a:prstGeom prst="line">
                <a:avLst/>
              </a:prstGeom>
              <a:ln w="38160">
                <a:solidFill>
                  <a:srgbClr val="1f0e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1136520" y="130320"/>
            <a:ext cx="630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ight-adjusted averag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2"/>
              <p:cNvSpPr txBox="1"/>
              <p:nvPr/>
            </p:nvSpPr>
            <p:spPr>
              <a:xfrm>
                <a:off x="3048120" y="1066680"/>
                <a:ext cx="4305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1219320" y="2844720"/>
                <a:ext cx="5803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TextBox 4"/>
          <p:cNvSpPr/>
          <p:nvPr/>
        </p:nvSpPr>
        <p:spPr>
          <a:xfrm>
            <a:off x="333720" y="106668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ind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ically the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ue of x is given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461880" y="2057400"/>
            <a:ext cx="7637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times we want to weigh data points with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ight factors”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t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258480" y="4038480"/>
            <a:ext cx="61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lready KNOW this – e. g. your gr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6"/>
              <p:cNvSpPr txBox="1"/>
              <p:nvPr/>
            </p:nvSpPr>
            <p:spPr>
              <a:xfrm>
                <a:off x="228600" y="4570560"/>
                <a:ext cx="83581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D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orma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S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IN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%*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TextBox 8"/>
          <p:cNvSpPr/>
          <p:nvPr/>
        </p:nvSpPr>
        <p:spPr>
          <a:xfrm>
            <a:off x="375120" y="5791320"/>
            <a:ext cx="789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ights: 20 for Final Exam, 20 for Formal Report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 for each of 5 labs – lowest score gets drop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357120" y="609480"/>
            <a:ext cx="84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More precise data points should carry more we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Idea: weigh the points with the ~ inverse of their error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3"/>
          <p:cNvGrpSpPr/>
          <p:nvPr/>
        </p:nvGrpSpPr>
        <p:grpSpPr>
          <a:xfrm>
            <a:off x="228600" y="1752480"/>
            <a:ext cx="6400800" cy="4876920"/>
            <a:chOff x="228600" y="1752480"/>
            <a:chExt cx="6400800" cy="4876920"/>
          </a:xfrm>
        </p:grpSpPr>
        <p:grpSp>
          <p:nvGrpSpPr>
            <p:cNvPr id="233" name="Group 26"/>
            <p:cNvGrpSpPr/>
            <p:nvPr/>
          </p:nvGrpSpPr>
          <p:grpSpPr>
            <a:xfrm>
              <a:off x="228600" y="1752480"/>
              <a:ext cx="6400800" cy="4876920"/>
              <a:chOff x="228600" y="1752480"/>
              <a:chExt cx="6400800" cy="4876920"/>
            </a:xfrm>
          </p:grpSpPr>
          <p:graphicFrame>
            <p:nvGraphicFramePr>
              <p:cNvPr id="234" name="Object 2"/>
              <p:cNvGraphicFramePr/>
              <p:nvPr/>
            </p:nvGraphicFramePr>
            <p:xfrm>
              <a:off x="228600" y="1817640"/>
              <a:ext cx="6217920" cy="4811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5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" y="1817640"/>
                        <a:ext cx="6217920" cy="481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6" name="Rectangle 25"/>
              <p:cNvSpPr/>
              <p:nvPr/>
            </p:nvSpPr>
            <p:spPr>
              <a:xfrm>
                <a:off x="1143000" y="1752480"/>
                <a:ext cx="5486400" cy="39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6"/>
            <p:cNvGrpSpPr/>
            <p:nvPr/>
          </p:nvGrpSpPr>
          <p:grpSpPr>
            <a:xfrm>
              <a:off x="3885840" y="3577680"/>
              <a:ext cx="197280" cy="521280"/>
              <a:chOff x="3885840" y="3577680"/>
              <a:chExt cx="197280" cy="521280"/>
            </a:xfrm>
          </p:grpSpPr>
          <p:sp>
            <p:nvSpPr>
              <p:cNvPr id="238" name="Oval 27"/>
              <p:cNvSpPr/>
              <p:nvPr/>
            </p:nvSpPr>
            <p:spPr>
              <a:xfrm>
                <a:off x="3922560" y="3800160"/>
                <a:ext cx="122400" cy="12996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" name="Group 35"/>
              <p:cNvGrpSpPr/>
              <p:nvPr/>
            </p:nvGrpSpPr>
            <p:grpSpPr>
              <a:xfrm>
                <a:off x="3885840" y="3577680"/>
                <a:ext cx="197280" cy="521280"/>
                <a:chOff x="3885840" y="3577680"/>
                <a:chExt cx="197280" cy="521280"/>
              </a:xfrm>
            </p:grpSpPr>
            <p:sp>
              <p:nvSpPr>
                <p:cNvPr id="240" name="Straight Connector 31"/>
                <p:cNvSpPr/>
                <p:nvPr/>
              </p:nvSpPr>
              <p:spPr>
                <a:xfrm flipH="1">
                  <a:off x="3983400" y="3577680"/>
                  <a:ext cx="1440" cy="5212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Straight Connector 32"/>
                <p:cNvSpPr/>
                <p:nvPr/>
              </p:nvSpPr>
              <p:spPr>
                <a:xfrm flipH="1">
                  <a:off x="3885840" y="3591720"/>
                  <a:ext cx="18324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Straight Connector 34"/>
                <p:cNvSpPr/>
                <p:nvPr/>
              </p:nvSpPr>
              <p:spPr>
                <a:xfrm flipH="1" flipV="1">
                  <a:off x="3899880" y="4097520"/>
                  <a:ext cx="183240" cy="144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" name="Group 47"/>
            <p:cNvGrpSpPr/>
            <p:nvPr/>
          </p:nvGrpSpPr>
          <p:grpSpPr>
            <a:xfrm>
              <a:off x="1764360" y="4803840"/>
              <a:ext cx="171000" cy="182880"/>
              <a:chOff x="1764360" y="4803840"/>
              <a:chExt cx="171000" cy="182880"/>
            </a:xfrm>
          </p:grpSpPr>
          <p:sp>
            <p:nvSpPr>
              <p:cNvPr id="244" name="Oval 38"/>
              <p:cNvSpPr/>
              <p:nvPr/>
            </p:nvSpPr>
            <p:spPr>
              <a:xfrm>
                <a:off x="1788840" y="484344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" name="Group 35"/>
              <p:cNvGrpSpPr/>
              <p:nvPr/>
            </p:nvGrpSpPr>
            <p:grpSpPr>
              <a:xfrm>
                <a:off x="1764360" y="4803840"/>
                <a:ext cx="171000" cy="182880"/>
                <a:chOff x="1764360" y="4803840"/>
                <a:chExt cx="171000" cy="182880"/>
              </a:xfrm>
            </p:grpSpPr>
            <p:sp>
              <p:nvSpPr>
                <p:cNvPr id="246" name="Straight Connector 40"/>
                <p:cNvSpPr/>
                <p:nvPr/>
              </p:nvSpPr>
              <p:spPr>
                <a:xfrm flipH="1">
                  <a:off x="1848240" y="480384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Straight Connector 41"/>
                <p:cNvSpPr/>
                <p:nvPr/>
              </p:nvSpPr>
              <p:spPr>
                <a:xfrm flipH="1">
                  <a:off x="1764360" y="480852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Straight Connector 42"/>
                <p:cNvSpPr/>
                <p:nvPr/>
              </p:nvSpPr>
              <p:spPr>
                <a:xfrm flipH="1">
                  <a:off x="1776960" y="498672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48"/>
            <p:cNvGrpSpPr/>
            <p:nvPr/>
          </p:nvGrpSpPr>
          <p:grpSpPr>
            <a:xfrm>
              <a:off x="1386360" y="5011920"/>
              <a:ext cx="171000" cy="182880"/>
              <a:chOff x="1386360" y="5011920"/>
              <a:chExt cx="171000" cy="182880"/>
            </a:xfrm>
          </p:grpSpPr>
          <p:sp>
            <p:nvSpPr>
              <p:cNvPr id="250" name="Oval 49"/>
              <p:cNvSpPr/>
              <p:nvPr/>
            </p:nvSpPr>
            <p:spPr>
              <a:xfrm>
                <a:off x="1413000" y="5051160"/>
                <a:ext cx="1206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Group 35"/>
              <p:cNvGrpSpPr/>
              <p:nvPr/>
            </p:nvGrpSpPr>
            <p:grpSpPr>
              <a:xfrm>
                <a:off x="1386360" y="5011920"/>
                <a:ext cx="171000" cy="182880"/>
                <a:chOff x="1386360" y="5011920"/>
                <a:chExt cx="171000" cy="182880"/>
              </a:xfrm>
            </p:grpSpPr>
            <p:sp>
              <p:nvSpPr>
                <p:cNvPr id="252" name="Straight Connector 51"/>
                <p:cNvSpPr/>
                <p:nvPr/>
              </p:nvSpPr>
              <p:spPr>
                <a:xfrm flipH="1">
                  <a:off x="1468800" y="501192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Straight Connector 52"/>
                <p:cNvSpPr/>
                <p:nvPr/>
              </p:nvSpPr>
              <p:spPr>
                <a:xfrm flipH="1">
                  <a:off x="1386360" y="5016600"/>
                  <a:ext cx="15948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Straight Connector 53"/>
                <p:cNvSpPr/>
                <p:nvPr/>
              </p:nvSpPr>
              <p:spPr>
                <a:xfrm flipH="1">
                  <a:off x="1397880" y="5194800"/>
                  <a:ext cx="15948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54"/>
            <p:cNvGrpSpPr/>
            <p:nvPr/>
          </p:nvGrpSpPr>
          <p:grpSpPr>
            <a:xfrm>
              <a:off x="2178720" y="4555440"/>
              <a:ext cx="171000" cy="182880"/>
              <a:chOff x="2178720" y="4555440"/>
              <a:chExt cx="171000" cy="182880"/>
            </a:xfrm>
          </p:grpSpPr>
          <p:sp>
            <p:nvSpPr>
              <p:cNvPr id="256" name="Oval 55"/>
              <p:cNvSpPr/>
              <p:nvPr/>
            </p:nvSpPr>
            <p:spPr>
              <a:xfrm>
                <a:off x="2205000" y="459540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Group 35"/>
              <p:cNvGrpSpPr/>
              <p:nvPr/>
            </p:nvGrpSpPr>
            <p:grpSpPr>
              <a:xfrm>
                <a:off x="2178720" y="4555440"/>
                <a:ext cx="171000" cy="182880"/>
                <a:chOff x="2178720" y="4555440"/>
                <a:chExt cx="171000" cy="182880"/>
              </a:xfrm>
            </p:grpSpPr>
            <p:sp>
              <p:nvSpPr>
                <p:cNvPr id="258" name="Straight Connector 57"/>
                <p:cNvSpPr/>
                <p:nvPr/>
              </p:nvSpPr>
              <p:spPr>
                <a:xfrm flipH="1">
                  <a:off x="2265480" y="455544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Straight Connector 58"/>
                <p:cNvSpPr/>
                <p:nvPr/>
              </p:nvSpPr>
              <p:spPr>
                <a:xfrm flipH="1">
                  <a:off x="2178720" y="4560120"/>
                  <a:ext cx="15876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Straight Connector 59"/>
                <p:cNvSpPr/>
                <p:nvPr/>
              </p:nvSpPr>
              <p:spPr>
                <a:xfrm flipH="1">
                  <a:off x="2190960" y="4738320"/>
                  <a:ext cx="15876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66"/>
            <p:cNvGrpSpPr/>
            <p:nvPr/>
          </p:nvGrpSpPr>
          <p:grpSpPr>
            <a:xfrm>
              <a:off x="5410080" y="2665080"/>
              <a:ext cx="243720" cy="1238400"/>
              <a:chOff x="5410080" y="2665080"/>
              <a:chExt cx="243720" cy="1238400"/>
            </a:xfrm>
          </p:grpSpPr>
          <p:sp>
            <p:nvSpPr>
              <p:cNvPr id="262" name="Oval 61"/>
              <p:cNvSpPr/>
              <p:nvPr/>
            </p:nvSpPr>
            <p:spPr>
              <a:xfrm>
                <a:off x="5472360" y="3261960"/>
                <a:ext cx="122040" cy="12996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35"/>
              <p:cNvGrpSpPr/>
              <p:nvPr/>
            </p:nvGrpSpPr>
            <p:grpSpPr>
              <a:xfrm>
                <a:off x="5410080" y="2665080"/>
                <a:ext cx="243720" cy="1238400"/>
                <a:chOff x="5410080" y="2665080"/>
                <a:chExt cx="243720" cy="1238400"/>
              </a:xfrm>
            </p:grpSpPr>
            <p:sp>
              <p:nvSpPr>
                <p:cNvPr id="264" name="Straight Connector 63"/>
                <p:cNvSpPr/>
                <p:nvPr/>
              </p:nvSpPr>
              <p:spPr>
                <a:xfrm flipH="1">
                  <a:off x="5530680" y="2665080"/>
                  <a:ext cx="1440" cy="123840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Straight Connector 64"/>
                <p:cNvSpPr/>
                <p:nvPr/>
              </p:nvSpPr>
              <p:spPr>
                <a:xfrm flipH="1" flipV="1">
                  <a:off x="5410080" y="2698200"/>
                  <a:ext cx="226440" cy="144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Straight Connector 65"/>
                <p:cNvSpPr/>
                <p:nvPr/>
              </p:nvSpPr>
              <p:spPr>
                <a:xfrm flipH="1" flipV="1">
                  <a:off x="5427360" y="3900600"/>
                  <a:ext cx="226440" cy="144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67"/>
            <p:cNvGrpSpPr/>
            <p:nvPr/>
          </p:nvGrpSpPr>
          <p:grpSpPr>
            <a:xfrm>
              <a:off x="2955960" y="4114080"/>
              <a:ext cx="171000" cy="182880"/>
              <a:chOff x="2955960" y="4114080"/>
              <a:chExt cx="171000" cy="182880"/>
            </a:xfrm>
          </p:grpSpPr>
          <p:sp>
            <p:nvSpPr>
              <p:cNvPr id="268" name="Oval 68"/>
              <p:cNvSpPr/>
              <p:nvPr/>
            </p:nvSpPr>
            <p:spPr>
              <a:xfrm>
                <a:off x="2981520" y="415440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Group 35"/>
              <p:cNvGrpSpPr/>
              <p:nvPr/>
            </p:nvGrpSpPr>
            <p:grpSpPr>
              <a:xfrm>
                <a:off x="2955960" y="4114080"/>
                <a:ext cx="171000" cy="182880"/>
                <a:chOff x="2955960" y="4114080"/>
                <a:chExt cx="171000" cy="182880"/>
              </a:xfrm>
            </p:grpSpPr>
            <p:sp>
              <p:nvSpPr>
                <p:cNvPr id="270" name="Straight Connector 70"/>
                <p:cNvSpPr/>
                <p:nvPr/>
              </p:nvSpPr>
              <p:spPr>
                <a:xfrm flipH="1">
                  <a:off x="3039840" y="411408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Straight Connector 71"/>
                <p:cNvSpPr/>
                <p:nvPr/>
              </p:nvSpPr>
              <p:spPr>
                <a:xfrm flipH="1">
                  <a:off x="2955960" y="411876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Straight Connector 72"/>
                <p:cNvSpPr/>
                <p:nvPr/>
              </p:nvSpPr>
              <p:spPr>
                <a:xfrm flipH="1">
                  <a:off x="2968560" y="429696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3" name="Line 5"/>
            <p:cNvSpPr/>
            <p:nvPr/>
          </p:nvSpPr>
          <p:spPr>
            <a:xfrm flipV="1">
              <a:off x="1038960" y="2053080"/>
              <a:ext cx="5590440" cy="3339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1288800" y="130320"/>
            <a:ext cx="630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eight-adjusted averag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341280" y="868320"/>
            <a:ext cx="8622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we average values with different uncertain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A measured resistance 100±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1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ent B measured resistance 105±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10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457200" y="4495680"/>
                <a:ext cx="2089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1143000" y="5562720"/>
                <a:ext cx="1152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2971800" y="5562720"/>
                <a:ext cx="1179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609480" y="2616120"/>
                <a:ext cx="580392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TextBox 13"/>
          <p:cNvSpPr/>
          <p:nvPr/>
        </p:nvSpPr>
        <p:spPr>
          <a:xfrm>
            <a:off x="598320" y="3962520"/>
            <a:ext cx="377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 in this case calculate for i=1,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2806560" y="472428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th “statistical” weigh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5"/>
          <p:cNvSpPr/>
          <p:nvPr/>
        </p:nvSpPr>
        <p:spPr>
          <a:xfrm>
            <a:off x="4648320" y="5410080"/>
            <a:ext cx="419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OTTOM LINE: More precise measurements get weighed more heavil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6"/>
          <p:cNvGrpSpPr/>
          <p:nvPr/>
        </p:nvGrpSpPr>
        <p:grpSpPr>
          <a:xfrm>
            <a:off x="152280" y="1828800"/>
            <a:ext cx="6400800" cy="4876920"/>
            <a:chOff x="152280" y="1828800"/>
            <a:chExt cx="6400800" cy="4876920"/>
          </a:xfrm>
        </p:grpSpPr>
        <p:grpSp>
          <p:nvGrpSpPr>
            <p:cNvPr id="284" name="Group 26"/>
            <p:cNvGrpSpPr/>
            <p:nvPr/>
          </p:nvGrpSpPr>
          <p:grpSpPr>
            <a:xfrm>
              <a:off x="152280" y="1828800"/>
              <a:ext cx="6400800" cy="4876920"/>
              <a:chOff x="152280" y="1828800"/>
              <a:chExt cx="6400800" cy="4876920"/>
            </a:xfrm>
          </p:grpSpPr>
          <p:graphicFrame>
            <p:nvGraphicFramePr>
              <p:cNvPr id="285" name="Object 4"/>
              <p:cNvGraphicFramePr/>
              <p:nvPr/>
            </p:nvGraphicFramePr>
            <p:xfrm>
              <a:off x="152280" y="1893960"/>
              <a:ext cx="6217920" cy="4811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86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52280" y="1893960"/>
                        <a:ext cx="6217920" cy="4811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7" name="Rectangle 46"/>
              <p:cNvSpPr/>
              <p:nvPr/>
            </p:nvSpPr>
            <p:spPr>
              <a:xfrm>
                <a:off x="1066680" y="1828800"/>
                <a:ext cx="5486400" cy="39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36"/>
            <p:cNvGrpSpPr/>
            <p:nvPr/>
          </p:nvGrpSpPr>
          <p:grpSpPr>
            <a:xfrm>
              <a:off x="3809520" y="3654000"/>
              <a:ext cx="197280" cy="521280"/>
              <a:chOff x="3809520" y="3654000"/>
              <a:chExt cx="197280" cy="521280"/>
            </a:xfrm>
          </p:grpSpPr>
          <p:sp>
            <p:nvSpPr>
              <p:cNvPr id="289" name="Oval 40"/>
              <p:cNvSpPr/>
              <p:nvPr/>
            </p:nvSpPr>
            <p:spPr>
              <a:xfrm>
                <a:off x="3846240" y="3876480"/>
                <a:ext cx="122400" cy="12996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" name="Group 35"/>
              <p:cNvGrpSpPr/>
              <p:nvPr/>
            </p:nvGrpSpPr>
            <p:grpSpPr>
              <a:xfrm>
                <a:off x="3809520" y="3654000"/>
                <a:ext cx="197280" cy="521280"/>
                <a:chOff x="3809520" y="3654000"/>
                <a:chExt cx="197280" cy="521280"/>
              </a:xfrm>
            </p:grpSpPr>
            <p:sp>
              <p:nvSpPr>
                <p:cNvPr id="291" name="Straight Connector 31"/>
                <p:cNvSpPr/>
                <p:nvPr/>
              </p:nvSpPr>
              <p:spPr>
                <a:xfrm flipH="1">
                  <a:off x="3907080" y="3654000"/>
                  <a:ext cx="1440" cy="5212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Straight Connector 43"/>
                <p:cNvSpPr/>
                <p:nvPr/>
              </p:nvSpPr>
              <p:spPr>
                <a:xfrm flipH="1">
                  <a:off x="3809520" y="3668040"/>
                  <a:ext cx="18324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Straight Connector 44"/>
                <p:cNvSpPr/>
                <p:nvPr/>
              </p:nvSpPr>
              <p:spPr>
                <a:xfrm flipH="1" flipV="1">
                  <a:off x="3823560" y="4173840"/>
                  <a:ext cx="183240" cy="144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47"/>
            <p:cNvGrpSpPr/>
            <p:nvPr/>
          </p:nvGrpSpPr>
          <p:grpSpPr>
            <a:xfrm>
              <a:off x="1687680" y="4880160"/>
              <a:ext cx="171000" cy="182880"/>
              <a:chOff x="1687680" y="4880160"/>
              <a:chExt cx="171000" cy="182880"/>
            </a:xfrm>
          </p:grpSpPr>
          <p:sp>
            <p:nvSpPr>
              <p:cNvPr id="295" name="Oval 35"/>
              <p:cNvSpPr/>
              <p:nvPr/>
            </p:nvSpPr>
            <p:spPr>
              <a:xfrm>
                <a:off x="1712520" y="491976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35"/>
              <p:cNvGrpSpPr/>
              <p:nvPr/>
            </p:nvGrpSpPr>
            <p:grpSpPr>
              <a:xfrm>
                <a:off x="1687680" y="4880160"/>
                <a:ext cx="171000" cy="182880"/>
                <a:chOff x="1687680" y="4880160"/>
                <a:chExt cx="171000" cy="182880"/>
              </a:xfrm>
            </p:grpSpPr>
            <p:sp>
              <p:nvSpPr>
                <p:cNvPr id="297" name="Straight Connector 37"/>
                <p:cNvSpPr/>
                <p:nvPr/>
              </p:nvSpPr>
              <p:spPr>
                <a:xfrm flipH="1">
                  <a:off x="1771560" y="488016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Straight Connector 38"/>
                <p:cNvSpPr/>
                <p:nvPr/>
              </p:nvSpPr>
              <p:spPr>
                <a:xfrm flipH="1">
                  <a:off x="1687680" y="488484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Straight Connector 39"/>
                <p:cNvSpPr/>
                <p:nvPr/>
              </p:nvSpPr>
              <p:spPr>
                <a:xfrm flipH="1">
                  <a:off x="1700280" y="506304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48"/>
            <p:cNvGrpSpPr/>
            <p:nvPr/>
          </p:nvGrpSpPr>
          <p:grpSpPr>
            <a:xfrm>
              <a:off x="1310040" y="5088240"/>
              <a:ext cx="171000" cy="182880"/>
              <a:chOff x="1310040" y="5088240"/>
              <a:chExt cx="171000" cy="182880"/>
            </a:xfrm>
          </p:grpSpPr>
          <p:sp>
            <p:nvSpPr>
              <p:cNvPr id="301" name="Oval 30"/>
              <p:cNvSpPr/>
              <p:nvPr/>
            </p:nvSpPr>
            <p:spPr>
              <a:xfrm>
                <a:off x="1334880" y="512748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2" name="Group 35"/>
              <p:cNvGrpSpPr/>
              <p:nvPr/>
            </p:nvGrpSpPr>
            <p:grpSpPr>
              <a:xfrm>
                <a:off x="1310040" y="5088240"/>
                <a:ext cx="171000" cy="182880"/>
                <a:chOff x="1310040" y="5088240"/>
                <a:chExt cx="171000" cy="182880"/>
              </a:xfrm>
            </p:grpSpPr>
            <p:sp>
              <p:nvSpPr>
                <p:cNvPr id="303" name="Straight Connector 32"/>
                <p:cNvSpPr/>
                <p:nvPr/>
              </p:nvSpPr>
              <p:spPr>
                <a:xfrm flipH="1">
                  <a:off x="1393920" y="508824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Straight Connector 33"/>
                <p:cNvSpPr/>
                <p:nvPr/>
              </p:nvSpPr>
              <p:spPr>
                <a:xfrm flipH="1">
                  <a:off x="1310040" y="509292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Straight Connector 34"/>
                <p:cNvSpPr/>
                <p:nvPr/>
              </p:nvSpPr>
              <p:spPr>
                <a:xfrm flipH="1">
                  <a:off x="1322640" y="527112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54"/>
            <p:cNvGrpSpPr/>
            <p:nvPr/>
          </p:nvGrpSpPr>
          <p:grpSpPr>
            <a:xfrm>
              <a:off x="2102400" y="4631760"/>
              <a:ext cx="171000" cy="182880"/>
              <a:chOff x="2102400" y="4631760"/>
              <a:chExt cx="171000" cy="182880"/>
            </a:xfrm>
          </p:grpSpPr>
          <p:sp>
            <p:nvSpPr>
              <p:cNvPr id="307" name="Oval 25"/>
              <p:cNvSpPr/>
              <p:nvPr/>
            </p:nvSpPr>
            <p:spPr>
              <a:xfrm>
                <a:off x="2128320" y="467172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Group 35"/>
              <p:cNvGrpSpPr/>
              <p:nvPr/>
            </p:nvGrpSpPr>
            <p:grpSpPr>
              <a:xfrm>
                <a:off x="2102400" y="4631760"/>
                <a:ext cx="171000" cy="182880"/>
                <a:chOff x="2102400" y="4631760"/>
                <a:chExt cx="171000" cy="182880"/>
              </a:xfrm>
            </p:grpSpPr>
            <p:sp>
              <p:nvSpPr>
                <p:cNvPr id="309" name="Straight Connector 27"/>
                <p:cNvSpPr/>
                <p:nvPr/>
              </p:nvSpPr>
              <p:spPr>
                <a:xfrm flipH="1">
                  <a:off x="2187000" y="463176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Straight Connector 28"/>
                <p:cNvSpPr/>
                <p:nvPr/>
              </p:nvSpPr>
              <p:spPr>
                <a:xfrm flipH="1">
                  <a:off x="2102400" y="4636440"/>
                  <a:ext cx="15984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Straight Connector 29"/>
                <p:cNvSpPr/>
                <p:nvPr/>
              </p:nvSpPr>
              <p:spPr>
                <a:xfrm flipH="1">
                  <a:off x="2113560" y="4814640"/>
                  <a:ext cx="15984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66"/>
            <p:cNvGrpSpPr/>
            <p:nvPr/>
          </p:nvGrpSpPr>
          <p:grpSpPr>
            <a:xfrm>
              <a:off x="5334480" y="2741400"/>
              <a:ext cx="243720" cy="1238400"/>
              <a:chOff x="5334480" y="2741400"/>
              <a:chExt cx="243720" cy="1238400"/>
            </a:xfrm>
          </p:grpSpPr>
          <p:sp>
            <p:nvSpPr>
              <p:cNvPr id="313" name="Oval 20"/>
              <p:cNvSpPr/>
              <p:nvPr/>
            </p:nvSpPr>
            <p:spPr>
              <a:xfrm>
                <a:off x="5395680" y="3338280"/>
                <a:ext cx="120600" cy="12996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Group 35"/>
              <p:cNvGrpSpPr/>
              <p:nvPr/>
            </p:nvGrpSpPr>
            <p:grpSpPr>
              <a:xfrm>
                <a:off x="5334480" y="2741400"/>
                <a:ext cx="243720" cy="1238400"/>
                <a:chOff x="5334480" y="2741400"/>
                <a:chExt cx="243720" cy="1238400"/>
              </a:xfrm>
            </p:grpSpPr>
            <p:sp>
              <p:nvSpPr>
                <p:cNvPr id="315" name="Straight Connector 22"/>
                <p:cNvSpPr/>
                <p:nvPr/>
              </p:nvSpPr>
              <p:spPr>
                <a:xfrm flipH="1">
                  <a:off x="5455800" y="2741400"/>
                  <a:ext cx="1440" cy="123840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Straight Connector 23"/>
                <p:cNvSpPr/>
                <p:nvPr/>
              </p:nvSpPr>
              <p:spPr>
                <a:xfrm flipH="1" flipV="1">
                  <a:off x="5334480" y="2774520"/>
                  <a:ext cx="226440" cy="144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Straight Connector 24"/>
                <p:cNvSpPr/>
                <p:nvPr/>
              </p:nvSpPr>
              <p:spPr>
                <a:xfrm flipH="1" flipV="1">
                  <a:off x="5351760" y="3976920"/>
                  <a:ext cx="226440" cy="144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" name="Group 67"/>
            <p:cNvGrpSpPr/>
            <p:nvPr/>
          </p:nvGrpSpPr>
          <p:grpSpPr>
            <a:xfrm>
              <a:off x="2879280" y="4190400"/>
              <a:ext cx="171000" cy="182880"/>
              <a:chOff x="2879280" y="4190400"/>
              <a:chExt cx="171000" cy="182880"/>
            </a:xfrm>
          </p:grpSpPr>
          <p:sp>
            <p:nvSpPr>
              <p:cNvPr id="319" name="Oval 15"/>
              <p:cNvSpPr/>
              <p:nvPr/>
            </p:nvSpPr>
            <p:spPr>
              <a:xfrm>
                <a:off x="2904840" y="4230720"/>
                <a:ext cx="122400" cy="130320"/>
              </a:xfrm>
              <a:prstGeom prst="ellipse">
                <a:avLst/>
              </a:prstGeom>
              <a:solidFill>
                <a:srgbClr val="1f0e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35"/>
              <p:cNvGrpSpPr/>
              <p:nvPr/>
            </p:nvGrpSpPr>
            <p:grpSpPr>
              <a:xfrm>
                <a:off x="2879280" y="4190400"/>
                <a:ext cx="171000" cy="182880"/>
                <a:chOff x="2879280" y="4190400"/>
                <a:chExt cx="171000" cy="182880"/>
              </a:xfrm>
            </p:grpSpPr>
            <p:sp>
              <p:nvSpPr>
                <p:cNvPr id="321" name="Straight Connector 17"/>
                <p:cNvSpPr/>
                <p:nvPr/>
              </p:nvSpPr>
              <p:spPr>
                <a:xfrm flipH="1">
                  <a:off x="2963160" y="4190400"/>
                  <a:ext cx="1440" cy="18288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Straight Connector 18"/>
                <p:cNvSpPr/>
                <p:nvPr/>
              </p:nvSpPr>
              <p:spPr>
                <a:xfrm flipH="1">
                  <a:off x="2879280" y="419508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Straight Connector 19"/>
                <p:cNvSpPr/>
                <p:nvPr/>
              </p:nvSpPr>
              <p:spPr>
                <a:xfrm flipH="1">
                  <a:off x="2891880" y="4373280"/>
                  <a:ext cx="158400" cy="0"/>
                </a:xfrm>
                <a:prstGeom prst="line">
                  <a:avLst/>
                </a:prstGeom>
                <a:ln w="38160">
                  <a:solidFill>
                    <a:srgbClr val="1f0ef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Line 5"/>
            <p:cNvSpPr/>
            <p:nvPr/>
          </p:nvSpPr>
          <p:spPr>
            <a:xfrm flipV="1">
              <a:off x="962640" y="2129400"/>
              <a:ext cx="5590440" cy="3339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 Box 4"/>
          <p:cNvSpPr/>
          <p:nvPr/>
        </p:nvSpPr>
        <p:spPr>
          <a:xfrm>
            <a:off x="4521240" y="4648320"/>
            <a:ext cx="41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good is th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tween theory  and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2112120" y="15228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EST for FIT (Ch.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3"/>
              <p:cNvSpPr txBox="1"/>
              <p:nvPr/>
            </p:nvSpPr>
            <p:spPr>
              <a:xfrm>
                <a:off x="1600200" y="914400"/>
                <a:ext cx="3294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 flipV="1">
            <a:off x="838080" y="3200040"/>
            <a:ext cx="3048120" cy="2390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2"/>
          <p:cNvGraphicFramePr/>
          <p:nvPr/>
        </p:nvGraphicFramePr>
        <p:xfrm>
          <a:off x="0" y="2793960"/>
          <a:ext cx="45720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93960"/>
                    <a:ext cx="45720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Text Box 4"/>
          <p:cNvSpPr/>
          <p:nvPr/>
        </p:nvSpPr>
        <p:spPr>
          <a:xfrm>
            <a:off x="1807200" y="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0000">
                <a:solidFill>
                  <a:srgbClr val="333399"/>
                </a:solidFill>
                <a:latin typeface="Symbol"/>
                <a:ea typeface="Symbol"/>
              </a:rPr>
              <a:t>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TEST for FIT (Ch.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4343400" y="1143000"/>
                <a:ext cx="178920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5"/>
              <p:cNvSpPr txBox="1"/>
              <p:nvPr/>
            </p:nvSpPr>
            <p:spPr>
              <a:xfrm>
                <a:off x="4952880" y="2057400"/>
                <a:ext cx="14241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Text Box 8"/>
          <p:cNvSpPr/>
          <p:nvPr/>
        </p:nvSpPr>
        <p:spPr>
          <a:xfrm>
            <a:off x="5928120" y="3809880"/>
            <a:ext cx="19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 = N -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"/>
          <p:cNvSpPr/>
          <p:nvPr/>
        </p:nvSpPr>
        <p:spPr>
          <a:xfrm>
            <a:off x="6248520" y="3124080"/>
            <a:ext cx="533160" cy="22860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6777360" y="313992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of degree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 flipH="1">
            <a:off x="5866920" y="4343400"/>
            <a:ext cx="7621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4693320" y="4648320"/>
            <a:ext cx="146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3"/>
          <p:cNvSpPr/>
          <p:nvPr/>
        </p:nvSpPr>
        <p:spPr>
          <a:xfrm>
            <a:off x="7696080" y="4343400"/>
            <a:ext cx="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6038280" y="5045040"/>
            <a:ext cx="312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 of 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culated from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6383520" y="605952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of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6400800" y="2362320"/>
                <a:ext cx="5634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1003320" y="1092240"/>
                <a:ext cx="3294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4" name="TextBox 16"/>
          <p:cNvSpPr/>
          <p:nvPr/>
        </p:nvSpPr>
        <p:spPr>
          <a:xfrm>
            <a:off x="12240" y="6458040"/>
            <a:ext cx="76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ample: You can always draw a perfect line through 2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-76320" y="609480"/>
          <a:ext cx="7772400" cy="56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609480"/>
                    <a:ext cx="7772400" cy="56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Line 3"/>
          <p:cNvSpPr/>
          <p:nvPr/>
        </p:nvSpPr>
        <p:spPr>
          <a:xfrm flipV="1">
            <a:off x="990720" y="380880"/>
            <a:ext cx="6095880" cy="4724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2362320" y="2666880"/>
            <a:ext cx="761760" cy="762120"/>
            <a:chOff x="2362320" y="2666880"/>
            <a:chExt cx="761760" cy="762120"/>
          </a:xfrm>
        </p:grpSpPr>
        <p:sp>
          <p:nvSpPr>
            <p:cNvPr id="349" name="Line 5"/>
            <p:cNvSpPr/>
            <p:nvPr/>
          </p:nvSpPr>
          <p:spPr>
            <a:xfrm>
              <a:off x="2362320" y="26668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6"/>
            <p:cNvSpPr/>
            <p:nvPr/>
          </p:nvSpPr>
          <p:spPr>
            <a:xfrm>
              <a:off x="2362320" y="3429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Line 7"/>
          <p:cNvSpPr/>
          <p:nvPr/>
        </p:nvSpPr>
        <p:spPr>
          <a:xfrm>
            <a:off x="2438280" y="26668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8"/>
          <p:cNvGrpSpPr/>
          <p:nvPr/>
        </p:nvGrpSpPr>
        <p:grpSpPr>
          <a:xfrm>
            <a:off x="4648320" y="2286000"/>
            <a:ext cx="761760" cy="457200"/>
            <a:chOff x="4648320" y="2286000"/>
            <a:chExt cx="761760" cy="457200"/>
          </a:xfrm>
        </p:grpSpPr>
        <p:sp>
          <p:nvSpPr>
            <p:cNvPr id="353" name="Line 9"/>
            <p:cNvSpPr/>
            <p:nvPr/>
          </p:nvSpPr>
          <p:spPr>
            <a:xfrm>
              <a:off x="4648320" y="2286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0"/>
            <p:cNvSpPr/>
            <p:nvPr/>
          </p:nvSpPr>
          <p:spPr>
            <a:xfrm>
              <a:off x="4648320" y="27432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Line 11"/>
          <p:cNvSpPr/>
          <p:nvPr/>
        </p:nvSpPr>
        <p:spPr>
          <a:xfrm>
            <a:off x="51814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1373400" y="2835360"/>
            <a:ext cx="1545840" cy="4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(A+B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5332680" y="2209680"/>
            <a:ext cx="154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(A+B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 rot="19237200">
            <a:off x="6418800" y="45648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ru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459720" y="0"/>
            <a:ext cx="509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AST  SQUARES 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5241960" y="31608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328920" y="4114800"/>
            <a:ext cx="202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nimiz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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5715000" y="3962520"/>
                <a:ext cx="111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7115040" y="3970440"/>
                <a:ext cx="111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Text Box 21"/>
          <p:cNvSpPr/>
          <p:nvPr/>
        </p:nvSpPr>
        <p:spPr>
          <a:xfrm>
            <a:off x="8313840" y="40784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2"/>
          <p:cNvSpPr/>
          <p:nvPr/>
        </p:nvSpPr>
        <p:spPr>
          <a:xfrm>
            <a:off x="2514600" y="5029200"/>
            <a:ext cx="52578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2741760" y="4800600"/>
            <a:ext cx="5344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in terms of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; B in terms of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2586600" y="5562720"/>
            <a:ext cx="18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lculat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5519880" y="556272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alcu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7518240" y="5334120"/>
                <a:ext cx="1101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χ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Text Box 27"/>
          <p:cNvSpPr/>
          <p:nvPr/>
        </p:nvSpPr>
        <p:spPr>
          <a:xfrm>
            <a:off x="2630520" y="6248520"/>
            <a:ext cx="35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termine probability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6627960" y="6195960"/>
                <a:ext cx="1082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χ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372" name="Text Box 29"/>
          <p:cNvSpPr/>
          <p:nvPr/>
        </p:nvSpPr>
        <p:spPr>
          <a:xfrm>
            <a:off x="1300680" y="762120"/>
            <a:ext cx="76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2166480" y="762120"/>
            <a:ext cx="11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=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1"/>
          <p:cNvSpPr/>
          <p:nvPr/>
        </p:nvSpPr>
        <p:spPr>
          <a:xfrm>
            <a:off x="1206000" y="1352520"/>
            <a:ext cx="41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(x)=A+Bx+C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exp(-Dx)+ln(Ex)+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7"/>
              <p:cNvSpPr txBox="1"/>
              <p:nvPr/>
            </p:nvSpPr>
            <p:spPr>
              <a:xfrm>
                <a:off x="5638680" y="2819520"/>
                <a:ext cx="2743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1"/>
          <p:cNvSpPr/>
          <p:nvPr/>
        </p:nvSpPr>
        <p:spPr>
          <a:xfrm>
            <a:off x="1153080" y="136440"/>
            <a:ext cx="714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ually computer program (for example Origin) can minim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 a function of fitting parameters (multi-dimensional landsca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method of steepest des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 about rolling a bowling ball in some energy landsc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til it settles at the lowes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"/>
          <p:cNvSpPr/>
          <p:nvPr/>
        </p:nvSpPr>
        <p:spPr>
          <a:xfrm>
            <a:off x="631800" y="1206360"/>
            <a:ext cx="6586560" cy="47372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Straight Arrow Connector 4"/>
          <p:cNvCxnSpPr/>
          <p:nvPr/>
        </p:nvCxnSpPr>
        <p:spPr>
          <a:xfrm flipH="1" flipV="1">
            <a:off x="447480" y="534240"/>
            <a:ext cx="49680" cy="561420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379" name="Straight Arrow Connector 5"/>
          <p:cNvCxnSpPr/>
          <p:nvPr/>
        </p:nvCxnSpPr>
        <p:spPr>
          <a:xfrm>
            <a:off x="320760" y="6001920"/>
            <a:ext cx="8279280" cy="10440"/>
          </a:xfrm>
          <a:prstGeom prst="straightConnector1">
            <a:avLst/>
          </a:prstGeom>
          <a:ln w="9360">
            <a:solidFill>
              <a:srgbClr val="333399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80" name="Object 7"/>
              <p:cNvSpPr txBox="1"/>
              <p:nvPr/>
            </p:nvSpPr>
            <p:spPr>
              <a:xfrm>
                <a:off x="379440" y="243000"/>
                <a:ext cx="69696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2"/>
              <p:cNvSpPr txBox="1"/>
              <p:nvPr/>
            </p:nvSpPr>
            <p:spPr>
              <a:xfrm>
                <a:off x="7818480" y="9360"/>
                <a:ext cx="407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2" name="TextBox 12"/>
          <p:cNvSpPr/>
          <p:nvPr/>
        </p:nvSpPr>
        <p:spPr>
          <a:xfrm>
            <a:off x="5545080" y="609912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tting Paramet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Straight Arrow Connector 14"/>
          <p:cNvCxnSpPr/>
          <p:nvPr/>
        </p:nvCxnSpPr>
        <p:spPr>
          <a:xfrm flipV="1">
            <a:off x="6350400" y="2742480"/>
            <a:ext cx="10440" cy="554760"/>
          </a:xfrm>
          <a:prstGeom prst="straightConnector1">
            <a:avLst/>
          </a:prstGeom>
          <a:ln w="47520">
            <a:solidFill>
              <a:srgbClr val="bfbfbf"/>
            </a:solidFill>
            <a:miter/>
            <a:tailEnd len="med" type="triangle" w="med"/>
          </a:ln>
        </p:spPr>
      </p:cxnSp>
      <p:sp>
        <p:nvSpPr>
          <p:cNvPr id="384" name="Oval 15"/>
          <p:cNvSpPr/>
          <p:nvPr/>
        </p:nvSpPr>
        <p:spPr>
          <a:xfrm>
            <a:off x="4309920" y="5710320"/>
            <a:ext cx="174600" cy="183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8"/>
          <p:cNvSpPr/>
          <p:nvPr/>
        </p:nvSpPr>
        <p:spPr>
          <a:xfrm>
            <a:off x="3132000" y="2665440"/>
            <a:ext cx="23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st fit (lowes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9"/>
          <p:cNvSpPr/>
          <p:nvPr/>
        </p:nvSpPr>
        <p:spPr>
          <a:xfrm>
            <a:off x="5729400" y="3317760"/>
            <a:ext cx="309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times the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ts “stuck” in a local minimum like this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lution? Give it a “kick” by resetting one of the fitting parameters and trying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traight Arrow Connector 12"/>
          <p:cNvCxnSpPr/>
          <p:nvPr/>
        </p:nvCxnSpPr>
        <p:spPr>
          <a:xfrm>
            <a:off x="4350240" y="3588840"/>
            <a:ext cx="50040" cy="1971000"/>
          </a:xfrm>
          <a:prstGeom prst="straightConnector1">
            <a:avLst/>
          </a:prstGeom>
          <a:ln w="4752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388" name="Oval 16"/>
          <p:cNvSpPr/>
          <p:nvPr/>
        </p:nvSpPr>
        <p:spPr>
          <a:xfrm>
            <a:off x="6291360" y="2509920"/>
            <a:ext cx="174600" cy="183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1"/>
          <p:cNvSpPr/>
          <p:nvPr/>
        </p:nvSpPr>
        <p:spPr>
          <a:xfrm>
            <a:off x="-4319640" y="1389240"/>
            <a:ext cx="25233480" cy="4841640"/>
          </a:xfrm>
          <a:prstGeom prst="pi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"/>
          <p:cNvSpPr/>
          <p:nvPr/>
        </p:nvSpPr>
        <p:spPr>
          <a:xfrm>
            <a:off x="329760" y="282600"/>
            <a:ext cx="71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fitting datapoints to y=A*cos(B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3"/>
          <p:cNvSpPr/>
          <p:nvPr/>
        </p:nvSpPr>
        <p:spPr>
          <a:xfrm>
            <a:off x="2957400" y="2558880"/>
            <a:ext cx="12564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4"/>
          <p:cNvSpPr/>
          <p:nvPr/>
        </p:nvSpPr>
        <p:spPr>
          <a:xfrm>
            <a:off x="3459240" y="1582560"/>
            <a:ext cx="127080" cy="136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4040280" y="25909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4292640" y="3670200"/>
            <a:ext cx="127080" cy="136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"/>
          <p:cNvSpPr/>
          <p:nvPr/>
        </p:nvSpPr>
        <p:spPr>
          <a:xfrm>
            <a:off x="4556160" y="4876920"/>
            <a:ext cx="1252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2587680" y="375444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2192400" y="4935600"/>
            <a:ext cx="1252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6232680" y="2565360"/>
            <a:ext cx="12528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6734160" y="158904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7246800" y="26161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7480440" y="3697200"/>
            <a:ext cx="12672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5"/>
          <p:cNvSpPr/>
          <p:nvPr/>
        </p:nvSpPr>
        <p:spPr>
          <a:xfrm>
            <a:off x="7772400" y="49021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6"/>
          <p:cNvSpPr/>
          <p:nvPr/>
        </p:nvSpPr>
        <p:spPr>
          <a:xfrm>
            <a:off x="5862600" y="37609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7"/>
          <p:cNvSpPr/>
          <p:nvPr/>
        </p:nvSpPr>
        <p:spPr>
          <a:xfrm>
            <a:off x="5632560" y="4844880"/>
            <a:ext cx="12672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8"/>
          <p:cNvSpPr/>
          <p:nvPr/>
        </p:nvSpPr>
        <p:spPr>
          <a:xfrm>
            <a:off x="5126040" y="5915160"/>
            <a:ext cx="127080" cy="134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9"/>
          <p:cNvSpPr/>
          <p:nvPr/>
        </p:nvSpPr>
        <p:spPr>
          <a:xfrm>
            <a:off x="1232280" y="2535120"/>
            <a:ext cx="14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fect”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Straight Arrow Connector 21"/>
          <p:cNvCxnSpPr/>
          <p:nvPr/>
        </p:nvCxnSpPr>
        <p:spPr>
          <a:xfrm>
            <a:off x="1463760" y="2975040"/>
            <a:ext cx="130392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255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day’s Pl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07880" y="1066320"/>
            <a:ext cx="850752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i-Squared, least-squared f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xt we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Lecture (Prof. Shpyrko is ba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77920" y="4898880"/>
            <a:ext cx="822960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2"/>
          <p:cNvSpPr/>
          <p:nvPr/>
        </p:nvSpPr>
        <p:spPr>
          <a:xfrm>
            <a:off x="329760" y="282600"/>
            <a:ext cx="71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 fitting datapoints to y=A*cos(B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3"/>
          <p:cNvSpPr/>
          <p:nvPr/>
        </p:nvSpPr>
        <p:spPr>
          <a:xfrm>
            <a:off x="2957400" y="2558880"/>
            <a:ext cx="12564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4"/>
          <p:cNvSpPr/>
          <p:nvPr/>
        </p:nvSpPr>
        <p:spPr>
          <a:xfrm>
            <a:off x="3459240" y="1582560"/>
            <a:ext cx="127080" cy="136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5"/>
          <p:cNvSpPr/>
          <p:nvPr/>
        </p:nvSpPr>
        <p:spPr>
          <a:xfrm>
            <a:off x="4040280" y="25909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6"/>
          <p:cNvSpPr/>
          <p:nvPr/>
        </p:nvSpPr>
        <p:spPr>
          <a:xfrm>
            <a:off x="4292640" y="3670200"/>
            <a:ext cx="127080" cy="1368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7"/>
          <p:cNvSpPr/>
          <p:nvPr/>
        </p:nvSpPr>
        <p:spPr>
          <a:xfrm>
            <a:off x="4556160" y="4876920"/>
            <a:ext cx="1252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9"/>
          <p:cNvSpPr/>
          <p:nvPr/>
        </p:nvSpPr>
        <p:spPr>
          <a:xfrm>
            <a:off x="2587680" y="375444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0"/>
          <p:cNvSpPr/>
          <p:nvPr/>
        </p:nvSpPr>
        <p:spPr>
          <a:xfrm>
            <a:off x="2192400" y="4935600"/>
            <a:ext cx="1252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1"/>
          <p:cNvSpPr/>
          <p:nvPr/>
        </p:nvSpPr>
        <p:spPr>
          <a:xfrm>
            <a:off x="6232680" y="2565360"/>
            <a:ext cx="12528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2"/>
          <p:cNvSpPr/>
          <p:nvPr/>
        </p:nvSpPr>
        <p:spPr>
          <a:xfrm>
            <a:off x="6734160" y="158904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3"/>
          <p:cNvSpPr/>
          <p:nvPr/>
        </p:nvSpPr>
        <p:spPr>
          <a:xfrm>
            <a:off x="7246800" y="26161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4"/>
          <p:cNvSpPr/>
          <p:nvPr/>
        </p:nvSpPr>
        <p:spPr>
          <a:xfrm>
            <a:off x="7480440" y="3697200"/>
            <a:ext cx="12672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5"/>
          <p:cNvSpPr/>
          <p:nvPr/>
        </p:nvSpPr>
        <p:spPr>
          <a:xfrm>
            <a:off x="7772400" y="49021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6"/>
          <p:cNvSpPr/>
          <p:nvPr/>
        </p:nvSpPr>
        <p:spPr>
          <a:xfrm>
            <a:off x="5862600" y="3760920"/>
            <a:ext cx="127080" cy="136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7"/>
          <p:cNvSpPr/>
          <p:nvPr/>
        </p:nvSpPr>
        <p:spPr>
          <a:xfrm>
            <a:off x="5632560" y="4844880"/>
            <a:ext cx="126720" cy="1350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8"/>
          <p:cNvSpPr/>
          <p:nvPr/>
        </p:nvSpPr>
        <p:spPr>
          <a:xfrm>
            <a:off x="5126040" y="5915160"/>
            <a:ext cx="127080" cy="1346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9"/>
          <p:cNvSpPr/>
          <p:nvPr/>
        </p:nvSpPr>
        <p:spPr>
          <a:xfrm>
            <a:off x="182520" y="1023840"/>
            <a:ext cx="34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uck” in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ima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landscape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Straight Arrow Connector 21"/>
          <p:cNvCxnSpPr/>
          <p:nvPr/>
        </p:nvCxnSpPr>
        <p:spPr>
          <a:xfrm>
            <a:off x="1121400" y="1584000"/>
            <a:ext cx="1207080" cy="13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6" name="Rectangle 24"/>
          <p:cNvSpPr/>
          <p:nvPr/>
        </p:nvSpPr>
        <p:spPr>
          <a:xfrm>
            <a:off x="7948440" y="1243080"/>
            <a:ext cx="1463760" cy="56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"/>
          <p:cNvSpPr/>
          <p:nvPr/>
        </p:nvSpPr>
        <p:spPr>
          <a:xfrm>
            <a:off x="1768320" y="1401840"/>
            <a:ext cx="3876840" cy="4840200"/>
          </a:xfrm>
          <a:prstGeom prst="pie">
            <a:avLst/>
          </a:prstGeom>
          <a:noFill/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20"/>
          <p:cNvSpPr/>
          <p:nvPr/>
        </p:nvSpPr>
        <p:spPr>
          <a:xfrm>
            <a:off x="5565600" y="1455840"/>
            <a:ext cx="3749760" cy="4841640"/>
          </a:xfrm>
          <a:prstGeom prst="pie">
            <a:avLst/>
          </a:prstGeom>
          <a:noFill/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1"/>
          <p:cNvSpPr/>
          <p:nvPr/>
        </p:nvSpPr>
        <p:spPr>
          <a:xfrm>
            <a:off x="551160" y="2133720"/>
            <a:ext cx="81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xt on PHYS 2C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nday, May 18,  Review L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1360" y="8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ng-term course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19040" y="6523200"/>
            <a:ext cx="82296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chedule available on Web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84080" y="1098720"/>
          <a:ext cx="7856640" cy="5389560"/>
        </p:xfrm>
        <a:graphic>
          <a:graphicData uri="http://schemas.openxmlformats.org/drawingml/2006/table">
            <a:tbl>
              <a:tblPr/>
              <a:tblGrid>
                <a:gridCol w="330480"/>
                <a:gridCol w="863640"/>
                <a:gridCol w="3828960"/>
                <a:gridCol w="2833560"/>
              </a:tblGrid>
              <a:tr h="52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Lecture 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Experi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r. 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 LAB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r.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Error propagation; Oscilloscop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RC circu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r.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rmal distribution; RLC circu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r.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Statistical analysis, t-value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Apr. 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esonant circu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y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eview of Expts. 4, 5, 6 and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4, 5, 6 or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May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Least squares fitting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</a:t>
                      </a:r>
                      <a:r>
                        <a:rPr b="0" lang="en-US" sz="1800" spc="-1" strike="noStrike" baseline="30000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omic Sans MS"/>
                          <a:ea typeface="Calibri"/>
                        </a:rPr>
                        <a:t>4, 5, 6 or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y 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 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Review L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4, 5, 6 or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9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May 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 Lecture  (UCSD Holiday: Memorial 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 LABS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Formal Reports D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Jun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  <a:ea typeface="Calibri"/>
                        </a:rPr>
                        <a:t>NO L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ight Arrow 5"/>
          <p:cNvSpPr/>
          <p:nvPr/>
        </p:nvSpPr>
        <p:spPr>
          <a:xfrm>
            <a:off x="0" y="4640400"/>
            <a:ext cx="660240" cy="23940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2600" y="129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abs Done This Qua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84200" y="1765440"/>
            <a:ext cx="744696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.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ing lab hardware &amp;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alog Electronic Circuits (resistors/capaci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cillations and Resonant Circuits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sonant circuits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efraction &amp; Interference with Microw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agnetic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ASER diffraction and inter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enses and the human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ight Arrow 3"/>
          <p:cNvSpPr/>
          <p:nvPr/>
        </p:nvSpPr>
        <p:spPr>
          <a:xfrm>
            <a:off x="671400" y="4194000"/>
            <a:ext cx="660600" cy="2397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9160" y="3257640"/>
            <a:ext cx="13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week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b(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 out of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ight Arrow 5"/>
          <p:cNvSpPr/>
          <p:nvPr/>
        </p:nvSpPr>
        <p:spPr>
          <a:xfrm>
            <a:off x="701640" y="4943520"/>
            <a:ext cx="660600" cy="2397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ight Arrow 6"/>
          <p:cNvSpPr/>
          <p:nvPr/>
        </p:nvSpPr>
        <p:spPr>
          <a:xfrm>
            <a:off x="712800" y="5430960"/>
            <a:ext cx="660240" cy="23976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7"/>
          <p:cNvSpPr/>
          <p:nvPr/>
        </p:nvSpPr>
        <p:spPr>
          <a:xfrm>
            <a:off x="723960" y="5864400"/>
            <a:ext cx="660240" cy="23940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9"/>
          <p:cNvSpPr/>
          <p:nvPr/>
        </p:nvSpPr>
        <p:spPr>
          <a:xfrm>
            <a:off x="904680" y="152280"/>
            <a:ext cx="62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LEAST  SQUARES  FITTING (Ch.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5158800" y="9144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r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5271840" y="140796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Agreement with theo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5315760" y="22096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Paramet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"/>
          <p:cNvSpPr/>
          <p:nvPr/>
        </p:nvSpPr>
        <p:spPr>
          <a:xfrm flipV="1">
            <a:off x="1066680" y="1905120"/>
            <a:ext cx="3505320" cy="3962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 flipV="1">
            <a:off x="1066680" y="2895120"/>
            <a:ext cx="3200400" cy="297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 flipV="1">
            <a:off x="1066680" y="2133360"/>
            <a:ext cx="3429000" cy="3733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 flipV="1">
            <a:off x="1066680" y="1752480"/>
            <a:ext cx="3505320" cy="4114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 flipV="1">
            <a:off x="1066680" y="1752480"/>
            <a:ext cx="3124440" cy="4114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V="1">
            <a:off x="1066680" y="1752480"/>
            <a:ext cx="2819520" cy="4114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V="1">
            <a:off x="1066680" y="1752480"/>
            <a:ext cx="2438640" cy="4114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54000" y="1752480"/>
          <a:ext cx="5127480" cy="50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1752480"/>
                    <a:ext cx="5127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3246840" y="4724280"/>
            <a:ext cx="13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(x) = 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018800" y="228600"/>
            <a:ext cx="29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LINEAR 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800960" y="336600"/>
            <a:ext cx="354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(x) = A +B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– intercept with y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– sl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152280" y="2119320"/>
          <a:ext cx="4730760" cy="46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19320"/>
                    <a:ext cx="473076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Rectangle 5"/>
          <p:cNvSpPr/>
          <p:nvPr/>
        </p:nvSpPr>
        <p:spPr>
          <a:xfrm>
            <a:off x="3240" y="-1224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240" y="61578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553080" y="2590920"/>
          <a:ext cx="1905120" cy="310824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Line 30"/>
          <p:cNvSpPr/>
          <p:nvPr/>
        </p:nvSpPr>
        <p:spPr>
          <a:xfrm flipV="1">
            <a:off x="1066680" y="2209680"/>
            <a:ext cx="3353040" cy="2895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1"/>
          <p:cNvGrpSpPr/>
          <p:nvPr/>
        </p:nvGrpSpPr>
        <p:grpSpPr>
          <a:xfrm>
            <a:off x="159120" y="5105520"/>
            <a:ext cx="450360" cy="777240"/>
            <a:chOff x="159120" y="5105520"/>
            <a:chExt cx="450360" cy="777240"/>
          </a:xfrm>
        </p:grpSpPr>
        <p:sp>
          <p:nvSpPr>
            <p:cNvPr id="88" name="Line 32"/>
            <p:cNvSpPr/>
            <p:nvPr/>
          </p:nvSpPr>
          <p:spPr>
            <a:xfrm>
              <a:off x="609480" y="5105520"/>
              <a:ext cx="0" cy="761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33"/>
            <p:cNvSpPr/>
            <p:nvPr/>
          </p:nvSpPr>
          <p:spPr>
            <a:xfrm>
              <a:off x="159120" y="542304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Line 34"/>
          <p:cNvSpPr/>
          <p:nvPr/>
        </p:nvSpPr>
        <p:spPr>
          <a:xfrm>
            <a:off x="228600" y="51055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rc 15"/>
          <p:cNvSpPr/>
          <p:nvPr/>
        </p:nvSpPr>
        <p:spPr>
          <a:xfrm>
            <a:off x="380880" y="3962520"/>
            <a:ext cx="1981440" cy="2438280"/>
          </a:xfrm>
          <a:prstGeom prst="pi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2205360" y="457200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B=tan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865880" y="304920"/>
            <a:ext cx="26038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0" spc="-1" strike="noStrike">
                <a:solidFill>
                  <a:srgbClr val="808080"/>
                </a:solidFill>
                <a:latin typeface="Comic Sans MS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66520" y="228600"/>
            <a:ext cx="29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LINEAR 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736880" y="336600"/>
            <a:ext cx="19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(x) = A +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2"/>
          <p:cNvGraphicFramePr/>
          <p:nvPr/>
        </p:nvGraphicFramePr>
        <p:xfrm>
          <a:off x="149400" y="2119320"/>
          <a:ext cx="4730400" cy="46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2119320"/>
                    <a:ext cx="47304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6"/>
          <p:cNvSpPr/>
          <p:nvPr/>
        </p:nvSpPr>
        <p:spPr>
          <a:xfrm>
            <a:off x="0" y="-1224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086600" y="380880"/>
          <a:ext cx="1905120" cy="312444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Line 30"/>
          <p:cNvSpPr/>
          <p:nvPr/>
        </p:nvSpPr>
        <p:spPr>
          <a:xfrm flipV="1">
            <a:off x="1143000" y="2209680"/>
            <a:ext cx="1523880" cy="419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1202040" y="217332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=-2+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2"/>
          <p:cNvSpPr/>
          <p:nvPr/>
        </p:nvSpPr>
        <p:spPr>
          <a:xfrm flipV="1">
            <a:off x="914400" y="2819520"/>
            <a:ext cx="3352680" cy="2133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3"/>
          <p:cNvSpPr/>
          <p:nvPr/>
        </p:nvSpPr>
        <p:spPr>
          <a:xfrm>
            <a:off x="3558600" y="3240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=9+0.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4736880" y="336600"/>
            <a:ext cx="19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(x) = A +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2"/>
          <p:cNvGraphicFramePr/>
          <p:nvPr/>
        </p:nvGraphicFramePr>
        <p:xfrm>
          <a:off x="149400" y="2119320"/>
          <a:ext cx="4730400" cy="46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2119320"/>
                    <a:ext cx="47304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5"/>
          <p:cNvSpPr/>
          <p:nvPr/>
        </p:nvSpPr>
        <p:spPr>
          <a:xfrm>
            <a:off x="0" y="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 flipV="1">
            <a:off x="1143000" y="2209680"/>
            <a:ext cx="1523880" cy="4191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202040" y="217332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=-2+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 flipV="1">
            <a:off x="914400" y="2819520"/>
            <a:ext cx="3352680" cy="2133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558600" y="32400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=9+0.8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5038200" y="3645000"/>
            <a:ext cx="407304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Comic Sans MS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&lt;&lt;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;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– normal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33399"/>
              </a:buClr>
              <a:buFont typeface="Symbol" charset="2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: same for all y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086600" y="380880"/>
          <a:ext cx="1905120" cy="310860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3"/>
          <p:cNvSpPr/>
          <p:nvPr/>
        </p:nvSpPr>
        <p:spPr>
          <a:xfrm>
            <a:off x="866520" y="228600"/>
            <a:ext cx="29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LINEAR 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627640" y="0"/>
            <a:ext cx="36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LINEAR  FIT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(x) = A + B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0" y="1233360"/>
          <a:ext cx="7772400" cy="56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3360"/>
                    <a:ext cx="7772400" cy="56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Line 5"/>
          <p:cNvSpPr/>
          <p:nvPr/>
        </p:nvSpPr>
        <p:spPr>
          <a:xfrm flipV="1">
            <a:off x="971640" y="1066680"/>
            <a:ext cx="6095880" cy="4724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2343240" y="3352680"/>
            <a:ext cx="761760" cy="762120"/>
            <a:chOff x="2343240" y="3352680"/>
            <a:chExt cx="761760" cy="762120"/>
          </a:xfrm>
        </p:grpSpPr>
        <p:sp>
          <p:nvSpPr>
            <p:cNvPr id="120" name="Line 7"/>
            <p:cNvSpPr/>
            <p:nvPr/>
          </p:nvSpPr>
          <p:spPr>
            <a:xfrm>
              <a:off x="2343240" y="33526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>
              <a:off x="2343240" y="4114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Line 9"/>
          <p:cNvSpPr/>
          <p:nvPr/>
        </p:nvSpPr>
        <p:spPr>
          <a:xfrm>
            <a:off x="2419200" y="3352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0"/>
          <p:cNvGrpSpPr/>
          <p:nvPr/>
        </p:nvGrpSpPr>
        <p:grpSpPr>
          <a:xfrm>
            <a:off x="4629240" y="2819520"/>
            <a:ext cx="761760" cy="609120"/>
            <a:chOff x="4629240" y="2819520"/>
            <a:chExt cx="761760" cy="609120"/>
          </a:xfrm>
        </p:grpSpPr>
        <p:sp>
          <p:nvSpPr>
            <p:cNvPr id="124" name="Line 11"/>
            <p:cNvSpPr/>
            <p:nvPr/>
          </p:nvSpPr>
          <p:spPr>
            <a:xfrm>
              <a:off x="4629240" y="28195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2"/>
            <p:cNvSpPr/>
            <p:nvPr/>
          </p:nvSpPr>
          <p:spPr>
            <a:xfrm>
              <a:off x="4629240" y="34286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13"/>
          <p:cNvSpPr/>
          <p:nvPr/>
        </p:nvSpPr>
        <p:spPr>
          <a:xfrm>
            <a:off x="5280120" y="2809800"/>
            <a:ext cx="0" cy="639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1184760" y="3429000"/>
            <a:ext cx="1082880" cy="4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yfi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5406120" y="2895480"/>
            <a:ext cx="108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yfi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 rot="19237200">
            <a:off x="7155000" y="7603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fi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7"/>
          <p:cNvGrpSpPr/>
          <p:nvPr/>
        </p:nvGrpSpPr>
        <p:grpSpPr>
          <a:xfrm>
            <a:off x="3255120" y="1025640"/>
            <a:ext cx="2617200" cy="703440"/>
            <a:chOff x="3255120" y="1025640"/>
            <a:chExt cx="2617200" cy="703440"/>
          </a:xfrm>
        </p:grpSpPr>
        <p:sp>
          <p:nvSpPr>
            <p:cNvPr id="131" name="Text Box 18"/>
            <p:cNvSpPr/>
            <p:nvPr/>
          </p:nvSpPr>
          <p:spPr>
            <a:xfrm>
              <a:off x="3570480" y="1141560"/>
              <a:ext cx="2301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[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-yfi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3255120" y="1025640"/>
              <a:ext cx="480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20"/>
          <p:cNvSpPr/>
          <p:nvPr/>
        </p:nvSpPr>
        <p:spPr>
          <a:xfrm>
            <a:off x="4916880" y="1003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1298520" y="1160640"/>
            <a:ext cx="1749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f th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2855880" y="1406520"/>
            <a:ext cx="53352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277920" y="525600"/>
            <a:ext cx="70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ethod of linear regression, aka the least-squares fit….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 flipV="1">
            <a:off x="838080" y="2819160"/>
            <a:ext cx="6553440" cy="11430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20:58:33Z</dcterms:created>
  <dc:creator>Oleg Shpyrko</dc:creator>
  <dc:description/>
  <cp:keywords>2CL</cp:keywords>
  <dc:language>en-US</dc:language>
  <cp:lastModifiedBy>Oleg Shpyrko</cp:lastModifiedBy>
  <dcterms:modified xsi:type="dcterms:W3CDTF">2009-05-07T20:37:15Z</dcterms:modified>
  <cp:revision>160</cp:revision>
  <dc:subject/>
  <dc:title>Slide 1</dc:title>
</cp:coreProperties>
</file>